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A669-9DC9-4194-8E39-0A9B1DE95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6C8C-B84C-4CE8-97A2-42BFAD55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78AF-99F8-4B46-BCD4-B557A59E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91B-40DC-40AB-B60D-805D7EB8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F3E-5423-4C63-AC9B-BA6A7272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0E4-F7FA-4004-8DBD-D168AE56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297E-4061-44E4-A9FE-F31906A4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6424-EF76-4FE4-A74A-D0D57D2E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0B5-0855-42C3-B604-C56C9B7A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CF9-8B09-4270-8999-5D3ACAC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3D3-30D4-4033-8705-06D92612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2E5-63E4-4262-8F22-A2821C99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2C92-FC80-4830-9670-08C46BBB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1A7C-65DE-42CA-B6BE-6B2931EC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4264-A28B-4C84-8D2E-78F0E898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C98F-A672-414E-850F-8B1ADDCC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2C0E-314B-41A9-852D-7AB47409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CF8-BC30-4A17-9C68-2D90AB4B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D64C-ECEC-47E3-8AA5-29CB5F45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DD3-6C09-45C8-9A42-C03842CD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8E15-5696-44C9-9ABF-CC3255E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298B-F7DD-425A-A32E-E32D68E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732-6498-421E-A29E-38D730E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14A-48A4-4598-B1B3-DAA2D37B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1A0-961D-4843-8995-81805A0E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F6C-B349-4E2D-B0B9-DEA7B9E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54A-9619-494C-B38C-4125CD29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2F0-9C15-42E6-8A38-E12C4E73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8A0-85BA-4DFF-86FD-6894A357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01F-3C6C-4AF9-995E-05458BE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A2F-E149-4076-B89A-CDE3A32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820-05E7-45A8-AE08-B07AB88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4AE-A890-4DDB-ACAA-55F1E8DF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CFEF-F1CC-459D-8237-C6FE546A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ergy Bar Char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the role of energy in phys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44520" y="6095880"/>
            <a:ext cx="21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Modeling Chemistr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count for Energ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must flow into system via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5460840" y="524520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3809880" y="5245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.5 bar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2108160" y="52322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EBC-process-5"/>
          <p:cNvPicPr/>
          <p:nvPr/>
        </p:nvPicPr>
        <p:blipFill>
          <a:blip r:embed="rId1"/>
          <a:stretch/>
        </p:blipFill>
        <p:spPr>
          <a:xfrm>
            <a:off x="1928880" y="2890800"/>
            <a:ext cx="4778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nstructing an Energy Bar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up of hot coffee cools as it sits on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at is 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else makes up the surrou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EBC-process"/>
          <p:cNvPicPr/>
          <p:nvPr/>
        </p:nvPicPr>
        <p:blipFill>
          <a:blip r:embed="rId1"/>
          <a:stretch/>
        </p:blipFill>
        <p:spPr>
          <a:xfrm>
            <a:off x="2349360" y="3462480"/>
            <a:ext cx="4519800" cy="1963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241880" y="440676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p cof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ide whether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ch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s involve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you start with coffee and end with coffee; particles are not rearranged to form new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ignore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sign values to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interactions between particles, the energy stored due to the arrangement of particles is rank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 &lt; liquids &lt;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hoose to represent these phases by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s =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s = 2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= 4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sign values to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rs before an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EBC-process-1"/>
          <p:cNvPicPr/>
          <p:nvPr/>
        </p:nvPicPr>
        <p:blipFill>
          <a:blip r:embed="rId1"/>
          <a:stretch/>
        </p:blipFill>
        <p:spPr>
          <a:xfrm>
            <a:off x="2095560" y="3056040"/>
            <a:ext cx="45194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oose bars for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epending on temperatu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4 bars for hot coffee and 2 bars for room temp 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values might also work; try to be consistent in your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EBC-process-2"/>
          <p:cNvPicPr/>
          <p:nvPr/>
        </p:nvPicPr>
        <p:blipFill>
          <a:blip r:embed="rId1"/>
          <a:stretch/>
        </p:blipFill>
        <p:spPr>
          <a:xfrm>
            <a:off x="2273400" y="2852640"/>
            <a:ext cx="45194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ow show energy transfe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ituation has 2 less bars of E than initial; 2 bars had to leave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2362320" y="5715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102200" y="57150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bar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765760" y="5715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3" descr="EBC-process-3"/>
          <p:cNvPicPr/>
          <p:nvPr/>
        </p:nvPicPr>
        <p:blipFill>
          <a:blip r:embed="rId1"/>
          <a:stretch/>
        </p:blipFill>
        <p:spPr>
          <a:xfrm>
            <a:off x="2068560" y="3500280"/>
            <a:ext cx="4778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ow, consider phase chan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tray of ice cubes (-8 ˚C) is placed on the counter and becomes water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know about the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s the tray of ice cub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id water turns to liquid water - no change i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(soli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(temp ri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represent these changes in bar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itial &amp; Final Stat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bars for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bitrary, but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d 2 bars for room temp and 1 bar for cold soda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&lt; 0_x0003_˚C should be &lt; 1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EBC-process-4"/>
          <p:cNvPicPr/>
          <p:nvPr/>
        </p:nvPicPr>
        <p:blipFill>
          <a:blip r:embed="rId1"/>
          <a:stretch/>
        </p:blipFill>
        <p:spPr>
          <a:xfrm>
            <a:off x="2157480" y="3805200"/>
            <a:ext cx="4778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02:10Z</dcterms:created>
  <dc:creator>Larry Dukerich</dc:creator>
  <dc:description/>
  <dc:language>en-US</dc:language>
  <cp:lastModifiedBy>RETI, VALERIE M.</cp:lastModifiedBy>
  <dcterms:modified xsi:type="dcterms:W3CDTF">2012-11-07T19:23:46Z</dcterms:modified>
  <cp:revision>18</cp:revision>
  <dc:subject/>
  <dc:title>Energy Bar Graphs</dc:title>
</cp:coreProperties>
</file>